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A366-659D-42FE-B78E-79ED10DC4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3247-BDDE-45B5-9202-22D2B1AEC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413-C3BD-4BF8-88EA-6B7A7388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EEB-E54A-44B1-BF6A-F63FDCCB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FE4-96DA-4AD1-8AAB-8FC63663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BB8-47F8-4505-AF98-6EC5FC6C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E35-84DD-4036-BE8D-0659EB1A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C96-4EA2-4B88-8C55-27D40649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79A-87FF-4C81-84EA-7636D2A5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936-031D-4E99-9865-ED90C686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C58-8CE1-486B-A545-EFCD47CA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82D-C686-4EF4-818F-3909B55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5952-8908-4148-BB08-44A2B078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367-1698-4BC6-876B-712F4EF8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59C7-8E8A-4DC2-9EB9-2B717B0C5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yoops.org/twocw/mit/NR/rdonlyres/Economics/14-05Fall-2005/09E5E194-B250-42D0-82B6-11E7175AB3E2/0/chp_currency_1.jpg"/>
          <p:cNvPicPr/>
          <p:nvPr/>
        </p:nvPicPr>
        <p:blipFill>
          <a:blip r:embed="rId1"/>
          <a:stretch/>
        </p:blipFill>
        <p:spPr>
          <a:xfrm>
            <a:off x="0" y="-136440"/>
            <a:ext cx="9215280" cy="6994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n Wei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k Knasi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NOT Jus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2.bp.blogspot.com/_5gW6OiFwD2U/SK172dU1utI/AAAAAAAADfg/vxjHk2XyJKM/s400/moneybags.jpeg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9"/>
          <p:cNvSpPr/>
          <p:nvPr/>
        </p:nvSpPr>
        <p:spPr>
          <a:xfrm>
            <a:off x="380880" y="1676520"/>
            <a:ext cx="8305920" cy="487656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4"/>
          <p:cNvSpPr/>
          <p:nvPr/>
        </p:nvSpPr>
        <p:spPr>
          <a:xfrm flipH="1">
            <a:off x="1523520" y="1754280"/>
            <a:ext cx="1800" cy="42656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9"/>
          <p:cNvSpPr/>
          <p:nvPr/>
        </p:nvSpPr>
        <p:spPr>
          <a:xfrm>
            <a:off x="1523880" y="6019920"/>
            <a:ext cx="4496040" cy="14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2"/>
          <p:cNvSpPr/>
          <p:nvPr/>
        </p:nvSpPr>
        <p:spPr>
          <a:xfrm flipV="1">
            <a:off x="2286000" y="3048120"/>
            <a:ext cx="2895480" cy="2133360"/>
          </a:xfrm>
          <a:prstGeom prst="line">
            <a:avLst/>
          </a:prstGeom>
          <a:ln w="349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184360" y="27432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2059920" y="51055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689400" y="20574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4728240" y="617220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1.istockphoto.com/file_thumbview_approve/1775959/2/istockphoto_1775959_macroeconomics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ope of AS Curve vs.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of goods and services a business can provide depends on the prices they obtain for their outp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ges and other production costs = increased pric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it per unit = price – cost per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positive slope because firms normally can purchase inputs at prices that are fixed for some period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eblogs.newsday.com/news/local/longisland/politics/blog/moneybags62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quilibrium G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676520"/>
            <a:ext cx="8305920" cy="487656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5"/>
          <p:cNvSpPr/>
          <p:nvPr/>
        </p:nvSpPr>
        <p:spPr>
          <a:xfrm flipH="1">
            <a:off x="1523520" y="1754280"/>
            <a:ext cx="1800" cy="42656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6"/>
          <p:cNvSpPr/>
          <p:nvPr/>
        </p:nvSpPr>
        <p:spPr>
          <a:xfrm>
            <a:off x="1523880" y="6019920"/>
            <a:ext cx="4496040" cy="14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 flipV="1">
            <a:off x="2286000" y="3048120"/>
            <a:ext cx="2895480" cy="2133360"/>
          </a:xfrm>
          <a:prstGeom prst="line">
            <a:avLst/>
          </a:prstGeom>
          <a:ln w="442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184360" y="27432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2059920" y="51055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994320" y="175248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5414040" y="609588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3"/>
          <p:cNvSpPr/>
          <p:nvPr/>
        </p:nvSpPr>
        <p:spPr>
          <a:xfrm>
            <a:off x="2438280" y="3124080"/>
            <a:ext cx="2667240" cy="2133720"/>
          </a:xfrm>
          <a:prstGeom prst="line">
            <a:avLst/>
          </a:prstGeom>
          <a:ln w="442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6"/>
          <p:cNvSpPr/>
          <p:nvPr/>
        </p:nvSpPr>
        <p:spPr>
          <a:xfrm flipH="1">
            <a:off x="3731760" y="4192560"/>
            <a:ext cx="3240" cy="1752480"/>
          </a:xfrm>
          <a:prstGeom prst="line">
            <a:avLst/>
          </a:prstGeom>
          <a:ln w="38160">
            <a:solidFill>
              <a:srgbClr val="4f62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18148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9810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9"/>
          <p:cNvSpPr/>
          <p:nvPr/>
        </p:nvSpPr>
        <p:spPr>
          <a:xfrm>
            <a:off x="335268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smallbiztechnology.com/media/money-coi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f Correcting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recession, more and more workers are unable to find work at the “high” wages they were use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 the need to be employed would overwhelm the resistance to wage c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inesses would become increasingly willing to cut prices as the period of weak demand pers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acc-tv.com/images/wjla/blogs/money_mon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ll Employm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0880" y="1676520"/>
            <a:ext cx="8305920" cy="487656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"/>
          <p:cNvSpPr/>
          <p:nvPr/>
        </p:nvSpPr>
        <p:spPr>
          <a:xfrm flipH="1">
            <a:off x="1523520" y="1754280"/>
            <a:ext cx="1800" cy="42656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9"/>
          <p:cNvSpPr/>
          <p:nvPr/>
        </p:nvSpPr>
        <p:spPr>
          <a:xfrm>
            <a:off x="1523880" y="6019920"/>
            <a:ext cx="4496040" cy="1440"/>
          </a:xfrm>
          <a:prstGeom prst="line">
            <a:avLst/>
          </a:prstGeom>
          <a:ln w="73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V="1">
            <a:off x="2286000" y="3048120"/>
            <a:ext cx="2895480" cy="2133360"/>
          </a:xfrm>
          <a:prstGeom prst="line">
            <a:avLst/>
          </a:prstGeom>
          <a:ln w="442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184360" y="27432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2059920" y="510552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994320" y="175248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5414040" y="609588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15"/>
          <p:cNvSpPr/>
          <p:nvPr/>
        </p:nvSpPr>
        <p:spPr>
          <a:xfrm>
            <a:off x="2438280" y="3124080"/>
            <a:ext cx="2667240" cy="2133720"/>
          </a:xfrm>
          <a:prstGeom prst="line">
            <a:avLst/>
          </a:prstGeom>
          <a:ln w="442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6"/>
          <p:cNvSpPr/>
          <p:nvPr/>
        </p:nvSpPr>
        <p:spPr>
          <a:xfrm flipH="1">
            <a:off x="3731760" y="4192560"/>
            <a:ext cx="3240" cy="1752480"/>
          </a:xfrm>
          <a:prstGeom prst="line">
            <a:avLst/>
          </a:prstGeom>
          <a:ln w="38160">
            <a:solidFill>
              <a:srgbClr val="4f62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18148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19810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335268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1"/>
          <p:cNvSpPr/>
          <p:nvPr/>
        </p:nvSpPr>
        <p:spPr>
          <a:xfrm flipH="1">
            <a:off x="3733920" y="1828800"/>
            <a:ext cx="2880" cy="4191120"/>
          </a:xfrm>
          <a:prstGeom prst="line">
            <a:avLst/>
          </a:prstGeom>
          <a:ln w="349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tbn0.google.com/images?q=tbn:I0REo8PhM2uWbM:http://www.acf-fr.org/i/08-01-17_money8.jpg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ll Employ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conomy is at full employment when equilibrium GDP = Potential G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06:00Z</dcterms:created>
  <dc:creator>MSMITH</dc:creator>
  <dc:description/>
  <dc:language>en-US</dc:language>
  <cp:lastModifiedBy>HP Authorized Customer</cp:lastModifiedBy>
  <dcterms:modified xsi:type="dcterms:W3CDTF">2009-01-27T22:05:17Z</dcterms:modified>
  <cp:revision>12</cp:revision>
  <dc:subject/>
  <dc:title>Chapter 28</dc:title>
</cp:coreProperties>
</file>